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5DB-2755-47B6-8C0B-E85D1DC2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C70-A125-45C6-A857-F0C5EDBC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A1F-8B1D-4B88-874F-8F5CC5BD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036-5806-4867-8097-5F6BD477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16D6-4A4E-4109-BFFF-BC60B131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9066-EFAC-4FFA-BC30-5FF19CB8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4105-D9B1-4D5E-85BA-B526E40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221-7094-47C5-A141-44D4CAB7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52C3-C9E5-488A-87D4-5B47ABC8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961-640B-4C94-9F5A-7526C31E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C4ED-5C38-4624-B953-A16ED509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D36-C3C8-4B48-A2F4-2E5E04F4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5D5F-6CF5-4558-83FF-9A9A5AB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28F5-BBD2-40C3-A236-D2D3A5B2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F7F-0A99-4151-B63C-EA615B3B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57E0-6B49-4EC3-8EE0-CF3C9A39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B77-D159-4992-8A36-CB30D96C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2A506-5575-487C-9387-44166460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91BD9-7897-4A33-A160-B8DC5AFC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71ACC-E631-4614-9494-F53FDDD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BB4F3-C3DB-48F1-906C-AD7CE4FF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3CC6A-2394-4758-A438-FEA144DB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9B9-5649-48D1-A35A-4CBDF050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708DD-FF46-4157-8946-1DC7B38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2EFA1-D504-42B4-9F83-3C167654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F803D-90B4-41A2-A53A-5482450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D91B0-D3DE-4E76-86BD-3D73127C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77114-A334-4984-A227-EF13BF6A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F4FE6-6470-40D7-A0D3-285B146D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D4B4E-44D4-4D9C-91C6-6EA1EAC6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0C0F-33F6-4305-91DA-539C3D6D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5D5D-1655-47E9-B22B-DB16393F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A6A6-1C38-4472-9CC1-8033EDA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851-9BC5-4EDE-8065-D93C491F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8D7D-0170-4AC9-89BC-0E7CDC0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021C-A61E-462C-B706-EDF677BE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D8876-0AA3-4D87-82AF-AD46CE5E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67E5-1792-46EB-91F9-229466AE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DCD4-F2D9-43D3-83C6-9E858CE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2B4B2-08ED-4FBC-8A0B-13FAA64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78D5-45DB-4521-A8F0-2D2F717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0B7D-22F1-4C4D-A80B-F05A53D3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3203-21C5-4451-9799-3081D989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0F207-ED43-4677-83EA-B3691CBD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63D-8C55-4DF2-AE5C-4A279538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C3017-A218-4E89-9F80-B25B6C55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830E4-C761-4BD7-9E53-AAF1D891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47F16-1940-450A-BC8B-E8B4C496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0A9E9-E43D-48E7-945A-1A83DFD5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5909E-CF6D-4730-A7BA-2B74B3E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B3E37-A734-4EC6-AF52-B79161DD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167E0-31D7-410E-A3D8-3FD6C1F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C39EC-4083-4CFF-A25D-CD5E557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CCF5E7-CEAD-4145-97C1-B59FA04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30A98-9BD5-41E8-B904-FB3E9322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4A44-F953-41BB-89FF-5311CB8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00A69-8BC3-4DF6-A8E4-50A137D3C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62CD64-03D9-4137-BDB6-0177AAEA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8EA97-2AEB-4A6D-8454-A3FC1853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78ECD-B10D-4FFD-BA69-33650B58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09098-B34D-4691-BBD7-F7862A31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D4E0A-C75C-4BAF-A588-E54E9D9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02C94-A1B8-4DEE-9542-3FF2B38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95055-518B-48F3-93CC-4809D8FE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CF58E-CD4B-42AB-BC65-EF9DF161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808EA-B7D0-4BAD-9E35-538A028D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FC44-BF79-4E70-A084-A0C734B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FFD66-7429-4F55-8BDB-32904727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600E3-B730-4361-AE1C-4B27BAB6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E04AB-F45E-4F49-9DC7-C4F396F2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3FB32-987F-4FD0-A6A8-C99EAB11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0F8FA-1FD9-41B8-AC95-2D75D7C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9BAA6-4F0B-4592-8D35-7D7A074E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D9785-E944-4E89-B2CB-531AB35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893E2-7E58-4E04-8ED3-4E9BB3F9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BA0D96-8C7D-4377-9A97-0BD05F89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94F6A-2E10-47BE-B4CF-7D2D195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CAB-F4DB-44D2-B7AC-9AC82156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595CA-EF49-46ED-8E0C-E4FDC30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8A63A-CC2C-456D-A666-6B892966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2168FD-91AB-4A42-BDCE-12CF242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16D45-E65C-4A8E-99D0-BEC8E86E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FDA46-1F32-4163-BF9F-16473961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031-254C-42FB-AD3C-0A70AC56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D89E-6686-4185-AEB7-18ECDE2D19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2917-824D-43E0-B9E0-0327EBEFC9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D5D6-3F56-4277-AFD4-245B6A8461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16AD-921C-4D97-8A17-8788A9DBC3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8B68-74CA-4E72-A10D-7D06CFDEE8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1120-1D74-498D-B2E2-CD234AD3DE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977F-AA6F-4A0B-8697-D70BE4191E0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ECHNOLOGY INTEG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hat Is Being Observed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EARLY TECH – ENTRY/ADOP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Occasional use of technology as a supplement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omputer games used as a reward for completion of work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urfing Internet and checking email as a rewar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Drill and practice software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Educational game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Students using technology individuall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DEVELOPING TECH - ADAPTA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5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of application software (i.e.word processor for student writing; teacher chooses the application) to complement selected instructional event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access electronic information and communication as applicable to learning objective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cooperative projects in the classroom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research and presentations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for presentations</a:t>
            </a: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ADVANCED TECH – APPROPRIA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reate communities of inquiry within their community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work with peers and experts in evaluating information, analyzing data and content to solve authentic problem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ols appropriate to convey knowledge and skills learned (students choose the application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TARGET TECH – INVENTION STAGE</a:t>
            </a:r>
            <a:r>
              <a:rPr b="0" lang="en-US" sz="27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66760" y="1438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echnology use is a process, product (e.g., invention, patent, new software design) and/or tool for students to find solutions related to an unidentified “real world” problem or issue of significanc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of technology for student-centered learning in communities of inquiry with business, industry, and higher educa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omplete activities that have been seamlessly integrated into all curriculum area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work collaboratively with other students in communities of inquiry to propose, assess, and implement solutions to real world problem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Use technology to communicate effectively with a variety of audiences. Use technology to communicate effectively with a variety of audiences.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05:52:52Z</dcterms:created>
  <dc:creator>DPISDADMIN</dc:creator>
  <dc:description/>
  <dc:language>en-US</dc:language>
  <cp:lastModifiedBy>dkrautz</cp:lastModifiedBy>
  <dcterms:modified xsi:type="dcterms:W3CDTF">2009-12-11T12:47:15Z</dcterms:modified>
  <cp:revision>2</cp:revision>
  <dc:subject/>
  <dc:title>Technology Integration</dc:title>
</cp:coreProperties>
</file>